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D74-F744-44D6-A5CD-1886FFC4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E9E-2380-484D-A815-FDD0531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12359-BB8D-420F-983D-900435E8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D858E-ADC2-4FFB-9E5F-3D0D9AF3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0638C-9325-469D-AEE7-4BFA29B2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B69D4-14D2-4FCD-BF8E-2B593CE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4790B-6735-4C54-9729-0D67F2E1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7B5F8-716C-4321-A57D-79C6278C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BA9D0-6357-480D-AF30-4AEADE39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CAD87-E8B9-44DC-9F32-84FDDEF2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7B766-5C81-44CC-8096-D25E9377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CF37C-CEAB-4E32-A9AD-6B4C1726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547-F265-4746-B551-44ED15A5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D024F-7C4D-420F-917D-D64A13C1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57C41-23E4-4590-B97A-D381B5EE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AFB3B-1604-4602-9810-B4ECD891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20B6A-DED8-4FA5-A380-21C9BE42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6C444-25BB-4A5A-A915-423D753C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A0041-6023-4A46-98C7-7D45090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DA7C9-A1FE-4F48-A876-7D06BD6C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2F2CD-C8B4-41A2-9422-461B4C6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7C508-6B8B-43D2-87B0-3A1C926A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A1579-3239-414D-B79C-D5845E4A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604-292D-4681-9457-FB0C3DFB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72633-5147-41B8-88B4-8FF70346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FB1A8F-FF6A-4A65-A30A-45C931BC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AD213E-20C1-415A-A154-7772C554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20BEE0-E6FC-479E-A06E-8B33BCC6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721784-0C87-47CA-BDAD-B06EB6C4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DA72EA-AE1B-40EC-B589-691789B1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BFDE6D-609A-416D-9F11-3D12B991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55FB10-71AA-43F1-80FB-49C6BFC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8A3C8B-070A-4283-8CB6-0D579685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30F73F-9579-4A7F-BA76-12C91978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2043-F8EE-4DDB-8761-F1E373B6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ACB00A-6FBF-490E-B232-C6764862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478E23-0D74-492B-ADDB-6DAD1B4E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D31643-4E7B-4FC5-98CB-98027352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88C16-5E17-429A-AE4C-BBC0E7DE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BAB2F-A7FF-4BB9-B94C-7D38476E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25B65-4698-4554-BF45-894F4822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1C2A3-B4A0-4403-8FC7-76F2EF13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5C0AC-C1B9-4E38-A369-34566E8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B20C5-97DD-4FC8-95C8-BD67971D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163CD-202B-400B-B420-C84F0EAB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5276-C859-4418-B732-E6DF2D46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AA3F2-E4BE-4782-B167-5870A6D3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EF316-F6DC-41FC-82CF-45FEEE53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37854-DC33-43DD-9A0C-A2BDE497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64C8F-7E0D-4E0E-BAE3-94DAA778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30C8C-E7C1-4923-8844-FB9B3938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C86F5-F150-48A8-8FD6-AB99D301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A7648-67FA-42E1-A5FD-8F5C7FED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5926F-0BBA-4891-8837-031CFB21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963CE-B25B-472B-802F-34807FFE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C2AAE-BEB5-46FA-8FC3-30AF137E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B636-3740-47AE-9902-AE493EA7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CE6E9-8701-4F63-840A-EA0DB19D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2CBD0-9E93-4054-9F2C-3E5CC31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51AA6-9076-432E-A422-8ACEA473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F6B00-90C6-4E14-8D33-3A6B15B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4404C-3572-4A75-B7B1-C98D9482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48A47-328A-4C69-9D62-0D5A72EF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6C63F-C0C9-4CF6-9055-C70E2560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3C2CD-252C-4B4D-8F87-3133A062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77C30-1BE6-476A-BEE8-5E45A558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08D03-4DFD-42EC-812A-CA9F5A03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0BFA-C5F2-4358-B03F-4927E48F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5B746-906D-4B0A-8357-A5B310D1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34431-CFC8-4DD5-A3D0-930DE150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E0190-91C3-4D75-BB50-63907A25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38512-8A50-458D-B19E-EF228689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83C68-5A45-4D78-A7AA-D8AB2491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53BFC-38BA-4A13-81F1-B5B08F01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8683E-6164-4BB2-ACD8-3C19A486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86396-8DB5-4935-B768-CF8D41CF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BCA23-1698-4F1E-8304-6E6DACB9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5557-C3BB-40F4-8C38-DF4B6150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9C09-A76C-4B1D-992A-C9EC4E5E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603C-98CA-4D80-96CC-ADB08C14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C57-6726-4BE1-9033-429B8865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A948-37EB-466B-8226-52B32A0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2DAD-2079-44A7-B825-DE7897CB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D037-75DD-40D6-8C82-C5605417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585-18F7-4146-8D5C-D389036E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4692-0143-43C3-B70D-C157A6F4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6ECE-3CF4-4654-A5E2-980335DE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9F1C-700E-4E72-95F1-FC5711D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932E-F89C-4018-860D-E7E4AE15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DB7F-CD38-488D-B130-EE280D83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4B33-E0C8-4B74-B7B5-629A86B2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88F-EA65-4BF7-8514-38558F51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840FC-C54E-4954-8CCE-555317F1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1B68-2AE7-45F7-94B2-15E5FF10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CACB-5910-4083-886D-4032C4F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835E-A460-480B-AF54-05F30EB6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6754-A915-440A-9547-374C355E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A003-08F8-4335-BDB3-240E3E21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E1C4-2322-4E48-9FF3-35B47602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6F831-8AF0-4868-976C-309E9437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BB8B-E253-4B7C-A54C-D41B0C30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F6A9-3AAC-490A-BBB5-515FC3EC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AF1-BB14-4A79-9694-A5FDDE52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08873-2433-4A80-8703-2EDFCB27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FFBF-B13B-4030-9CDB-1A5B8437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EDF2-8747-4170-AD3D-0167400E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E0D8-CD6B-490D-AB2B-11F2404D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1994-F9B6-43A8-9B69-A9FB679D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DB60-3F8A-4C07-9E7F-783B7340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2C82-EB39-4C2D-B1DB-62C3CB71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4C3A5-C9B5-4C0D-BE9D-D71DEBD1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F5E08-D859-4940-9554-FF740EC9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7D002-5999-45D3-9CFC-ECD797E0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4E5-5062-4D29-900A-842C37D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18C9B-56F4-4C8A-95C3-6DB6C2BB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BF798-8C9E-436D-8DB2-9E57EC53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3E21C-E79E-4E71-BCD8-D438C208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62114-3D5C-4A59-B69E-E6D8F168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E86C9-29F4-4D1C-B8DB-248A8009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FF3B7-3952-4BF3-9734-740E31E5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50E1F-ED76-4386-B040-DDCBD6E8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4EF13-B0D1-4E0E-95FC-1A009C49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E6BE2-8269-445C-B07E-F380DBFD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566F0-C121-4326-BAD5-15E38072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814-EB91-4DBB-BDF7-A461C1D6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403C3-0BF9-411C-AB35-421B8513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3B2BB-851F-4E1C-A6BA-B791F787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96EF8-7D94-4BF2-8550-535A20E1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A8BF9-88B2-4C9C-A581-A26BB70A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56C7-ED92-4B9E-BB90-7709970C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0901F-1E8D-44C1-8312-ED854920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FDD8E-EFD4-479D-A322-5EB8790D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C9F0-CF98-40B6-AE30-577F00B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F7359-D1AC-4BBA-B41F-14BF6494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910A-662B-4CAD-B0C7-06179A52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36A-2AA2-4FDE-ABE8-9E4EF4F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E40D7-CA11-45E1-B278-DE0FAFA9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F39C-38EF-45F5-9D14-C6AEF320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B0B5A-8D61-4CEE-9F33-73BCD8E4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1619-D420-4A5A-8A24-C243AC27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9D8EF-AB22-4439-9709-4A7EA57F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E3ADF-2E28-4816-95F3-7EA3F784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F620F-CC5D-461B-B208-9FAD088E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1276E-F82F-4334-BC95-4C39D8F1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DCA2A-82C3-49D0-8AE4-F323A810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9B79-7CDB-47B1-9D14-C5587E0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C1E-625C-43A1-81CA-F56933D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27C57-8C28-4C55-8BE7-882F1C25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2799B-0DC2-443F-86AC-9589317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9BD1F-256E-4700-AF86-1EA5DC92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46B74-303B-4339-9803-5FF03FB0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30DD2-C9BA-4622-B7FE-75D620C6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5D7E8-7745-47EC-8040-109398CF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54D46-64E0-4DDE-A2A6-35DFD039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2D522-3C59-432C-9E31-0EAF7D42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60DD9-47DC-43BC-8FAD-02D10138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2CCD2-28CF-4C71-A6B8-3E1DD898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C30-DFFC-41F3-966B-96A94C1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ECFF5-142E-46F1-AB56-1FFEA31F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8CD92-DCB0-4533-ADA9-86175C73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5CDE9-DFD2-46E9-8313-858DCA37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3F752-6C88-471A-8308-9A0A294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79CA1-578A-4D63-9F8A-5BC8BC2A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1B620-67F9-473C-AAFE-D187311D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A98F9-84BC-4570-9A89-185F5C86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64A0B-C560-48EF-BB75-8B4F2C84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1A43F-9853-4EAD-AC8E-F880559E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7CF95-9AED-4202-AB3A-8CA2B073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2ADE-A0F5-432F-89B4-03724E48F1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10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2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2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3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207A-C5E8-46F3-B120-86BFEC16E0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A141-BAFE-4CCC-A3A6-71B18EE12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5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5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0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988-C441-4AC1-A19B-17EC505037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6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86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87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7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41D-7AAF-4D5A-B0CB-2DF844BED716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93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93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5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95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96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6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6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B2F7-9A8E-42D8-BB4C-EFF5A412067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D449-A5CA-4EDE-8CE2-F7011437E0C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4515-888A-4F86-8B3E-0D4895ADAE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8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8BDF-63E7-4196-BB54-B440C98F944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CA73-166F-4F8E-9097-3610032BE5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7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F09B-D765-48B5-9302-22B63BC711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3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9BA5-242A-45C3-B439-4FBB3C9D91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F939-CE84-426C-8D49-CA2068C78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5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2536-655F-4C62-A39B-5C6155C099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60;&#1072;&#1081;&#1083;:Backing_sheep_at_sheepdog_competitio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Impact"/>
              </a:rPr>
              <a:t>ДИКИЕ ЗВЕРИ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хипова 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2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ГП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09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6034320" cy="44956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Какая пословица гласит о том, что дикого зверя нельзя приручить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e929"/>
                </a:solidFill>
                <a:latin typeface="Tahoma"/>
              </a:rPr>
              <a:t>«Сколько волка не корми, а он всё в лес смотр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Желаю вам успехов в получе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579760" cy="3895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Возможно ли приручить дикого зверя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4546440" cy="340992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5035680" y="2060640"/>
            <a:ext cx="3289320" cy="3600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Georgia"/>
              </a:rPr>
              <a:t>Назовите одомашненных живот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4140360" y="3716280"/>
            <a:ext cx="2879640" cy="252720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Щ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оба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есные хорь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ВОЯД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Ов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ошади, во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БЕСПОЗВОНОЧ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чёл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овый шелкопря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7" name="" descr="Backing sheep at sheepdog competi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557360"/>
            <a:ext cx="145764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Знаете ли вы каких животных          нельзя приручить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Чёрный воро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Каба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Лошадь Пржевальского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4016520" y="1919160"/>
            <a:ext cx="399384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их животных уже не существует в природ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блезубый тиг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мо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прачный тапи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дийский носо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4572000" y="1771560"/>
          <a:ext cx="419112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1560"/>
                    <a:ext cx="419112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Monotype Corsiva"/>
              </a:rPr>
              <a:t>Какие вы знаете изменения признаков после одомашнивания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Сокращение массы мозга на 20-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ритупление остроты восприятия(зрение, слух, обоня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Изменение или исчезновение некоторых форм поведения( к примеру- понижение агрессив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Уменьшение зубов и р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явление разнообразных мастей и окр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Редукция волосяного покрова (свинь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Менее развитый инстинкт защиты потом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вышенная плодовит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то был предком домашней лошад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78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3751200" cy="3195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ути одомашниван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уть привыкания животного к челове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сильствен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5796000" y="1268280"/>
          <a:ext cx="190656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268280"/>
                    <a:ext cx="190656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4" name="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183672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рвое, прирученное человеком животно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БАКА, предком которой был вол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5800680" y="1600200"/>
            <a:ext cx="1733760" cy="2185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5338800" y="3938760"/>
            <a:ext cx="26575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43:52Z</dcterms:created>
  <dc:creator>User</dc:creator>
  <dc:description/>
  <dc:language>en-US</dc:language>
  <cp:lastModifiedBy>07083</cp:lastModifiedBy>
  <dcterms:modified xsi:type="dcterms:W3CDTF">2009-11-05T13:14:12Z</dcterms:modified>
  <cp:revision>13</cp:revision>
  <dc:subject/>
  <dc:title>ДИКИЕ ЗВЕРИ</dc:title>
</cp:coreProperties>
</file>